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298-C955-4F05-B776-9C33079E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D04-8FD5-40D6-A64D-3FC2E660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03C-EEFA-422C-9DD2-C396F3DB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AF8-236A-4540-9EE1-4CAFAC22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08E-F2E1-498E-9ED9-E4978FD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956-6E86-4E84-89B5-8ED3138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DD5-8E57-4993-B631-B3C3FFC4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2DF-CC2A-4F05-93C6-1D8B0F79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5F1-625E-47ED-803A-76B02EE1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04D-3D0F-4139-AA6C-BC360151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480-C547-4B7E-BC61-FA505FE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1E0-942C-4C02-ACE7-17CF1CE4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6649-7D39-43FE-BD78-E410D8206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8920" y="1413000"/>
          <a:ext cx="6360840" cy="1960560"/>
        </p:xfrm>
        <a:graphic>
          <a:graphicData uri="http://schemas.openxmlformats.org/drawingml/2006/table">
            <a:tbl>
              <a:tblPr/>
              <a:tblGrid>
                <a:gridCol w="2120400"/>
                <a:gridCol w="2120040"/>
                <a:gridCol w="21204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VACC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RIMENTO D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NO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TTORE SANITARIO R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E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O DISTRE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042920" y="3716280"/>
            <a:ext cx="67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MPAGNA VACCINALE IN RSA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620640"/>
            <a:ext cx="67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MPAGNA VACCINALE IN RSA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58920" y="4508640"/>
          <a:ext cx="6408720" cy="1469880"/>
        </p:xfrm>
        <a:graphic>
          <a:graphicData uri="http://schemas.openxmlformats.org/drawingml/2006/table">
            <a:tbl>
              <a:tblPr/>
              <a:tblGrid>
                <a:gridCol w="2232000"/>
                <a:gridCol w="2089080"/>
                <a:gridCol w="208764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VACC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ERIMENTO D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NO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TTORE SANITARIO R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9-17T07:29:56Z</dcterms:created>
  <dc:creator>user</dc:creator>
  <dc:description/>
  <dc:language>en-US</dc:language>
  <cp:lastModifiedBy>user</cp:lastModifiedBy>
  <dcterms:modified xsi:type="dcterms:W3CDTF">2024-09-17T07:37:18Z</dcterms:modified>
  <cp:revision>1</cp:revision>
  <dc:subject/>
  <dc:title>Diapositiva 1</dc:title>
</cp:coreProperties>
</file>